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494-B961-425C-8820-8ADE4F9C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014-98D8-4A3E-9ACF-63745D0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2C0-6B67-4EDF-BBD7-93CA4EBF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420-9CB4-4A2E-8D03-C9BD533E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4EF-047F-4A76-BDB6-C0517E6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0E7-625F-49B3-BDE3-93D08840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793-AFF7-4A32-8C19-3F709DD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88-F920-40F5-9292-62565F2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026-FA30-4161-A8FB-50478B9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AEC-5363-496F-9471-263F58B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966-6A6F-4F3B-885F-34A311C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3A0-7013-45B1-9144-DC80251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F9D4-77E9-4511-976F-7A4FE2CCE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%5C..%5Cvideos%5Cfoodie%5Cmacro%5C(Macro)%20Episode%2033%20-%20Exchange%20Rates%20-%20YouTube.fl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CjwXz7ZXw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xchange-Rates1"/>
          <p:cNvPicPr/>
          <p:nvPr/>
        </p:nvPicPr>
        <p:blipFill>
          <a:blip r:embed="rId1"/>
          <a:stretch/>
        </p:blipFill>
        <p:spPr>
          <a:xfrm>
            <a:off x="4857840" y="4133880"/>
            <a:ext cx="4286160" cy="272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0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change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1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B Chapt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5eed2__currency_exchange_1"/>
          <p:cNvPicPr/>
          <p:nvPr/>
        </p:nvPicPr>
        <p:blipFill>
          <a:blip r:embed="rId2"/>
          <a:stretch/>
        </p:blipFill>
        <p:spPr>
          <a:xfrm>
            <a:off x="250920" y="18900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Calibri"/>
                <a:ea typeface="Calibri"/>
              </a:rPr>
              <a:t>Relative interes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relativ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rate of interest in the UK should lead to an increase in the demand for st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Hot money – enormous pool of money owned by companies and rich individuals that moves around the world seeking the highest interest rate (return) with leas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his will increase the demand for sterling making it appreciate i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mports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xports mo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f imports/exports are elastic BoP will b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May lead to ri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_5_orig"/>
          <p:cNvPicPr/>
          <p:nvPr/>
        </p:nvPicPr>
        <p:blipFill>
          <a:blip r:embed="rId1"/>
          <a:stretch/>
        </p:blipFill>
        <p:spPr>
          <a:xfrm>
            <a:off x="6091200" y="2195640"/>
            <a:ext cx="28065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d60093"/>
                </a:solidFill>
                <a:latin typeface="Calibri"/>
                <a:ea typeface="Calibri"/>
              </a:rPr>
              <a:t>Inflation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 has led to the depreciation of sterling (when inflation is rising faster than the 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Less revenue from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maintain export earning the UK must increase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n the UK foreign demand (exports) tends to be price elastic so this should benefit the B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mports appear to be inelastic so more is spent on im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Overall depreciation benefits UK – Marshall-Lerner condition hol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ll depends on the P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Depreciation leads to increasing inflation possibly leading to inflationary spi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more exports are required there may be a need for more capacity – government may need to take steps to ensure that the goods are not consumed domestically (with imports being more expens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hina-exports-inflation-to-us"/>
          <p:cNvPicPr/>
          <p:nvPr/>
        </p:nvPicPr>
        <p:blipFill>
          <a:blip r:embed="rId1"/>
          <a:stretch/>
        </p:blipFill>
        <p:spPr>
          <a:xfrm>
            <a:off x="6084720" y="2252520"/>
            <a:ext cx="30038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582480"/>
            <a:ext cx="9070920" cy="1609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332000" y="2341440"/>
            <a:ext cx="60483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60093"/>
                </a:solidFill>
                <a:latin typeface="Calibri"/>
                <a:ea typeface="Calibri"/>
              </a:rPr>
              <a:t>Foreign Direct Investment (FDI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 Less revenue from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FDI = flows of capital (long term investment opposed to short term hot mone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Usually to set up a factory or purchase shares in a foreign busi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crease in FDI increases demand leading to appreciating cur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creasing inflows of FDI into Asia leads to an appreciation of the Asian curren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60093"/>
                </a:solidFill>
                <a:latin typeface="Calibri"/>
                <a:ea typeface="Calibri"/>
              </a:rPr>
              <a:t>Trade and current account defic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mporting more increases the supply of their currency which depreciates the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deficits are persistent or a large percentage of GDP speculators may feel the value will fall and se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auses uncertain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fdi"/>
          <p:cNvPicPr/>
          <p:nvPr/>
        </p:nvPicPr>
        <p:blipFill>
          <a:blip r:embed="rId1"/>
          <a:stretch/>
        </p:blipFill>
        <p:spPr>
          <a:xfrm>
            <a:off x="6359400" y="1989000"/>
            <a:ext cx="2784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70200" y="4219560"/>
            <a:ext cx="4394160" cy="2682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ixed exchange rates have fallen out of fashion with the increased supply-side emphasis on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UK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 exchange rate was fixed between 1944 and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n again in 1990 to 91 when the UK joined the ERM (Exchange Rate Mecha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ajor problem – when rates were fixed they were realistic but changes in the market meant they were very different from the marke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is was du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fference in inflation rates between countries causing the £ to deprec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fference in growth rates – high growth rates (long term) reduces prices of goods causing the currency to apprec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ixed exchange rates vulnerable to spe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 government fixes the exchange rate at 50p to the dollar as seen in th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nitial equilibrium where B dollars ar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demand for dollars to D1 creates a disequilibrium situation because supply is fixed a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 dollar was would have appreciated to 60p with a floating exchange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central bank would sell AB dollars out of its foreign currency reserves to stop the dollar appreciating to 60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t may also have regulations in place to restrict exchanges between sterling and other curr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948360" y="220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4 P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age 3"/>
          <p:cNvPicPr/>
          <p:nvPr/>
        </p:nvPicPr>
        <p:blipFill>
          <a:blip r:embed="rId1"/>
          <a:stretch/>
        </p:blipFill>
        <p:spPr>
          <a:xfrm>
            <a:off x="5749920" y="1197000"/>
            <a:ext cx="3403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age 3"/>
          <p:cNvPicPr/>
          <p:nvPr/>
        </p:nvPicPr>
        <p:blipFill>
          <a:blip r:embed="rId1"/>
          <a:stretch/>
        </p:blipFill>
        <p:spPr>
          <a:xfrm>
            <a:off x="5749920" y="1197000"/>
            <a:ext cx="340344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imbalance were maintained there would be a continuous drain on reser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cou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bandon the fixed rate allowing sterling to find its own level with market fo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ake steps to restrict the demand for dollars by following a deflationary domestic polic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ould be an increase in tax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More likely to be an increase in interest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Notice that if you use fixed exchange rates you would need to use monetary policy which you need to control inf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Variations of the totally fixed rate could be u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djustable peg – currencies could be changed to new fixed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rawling peg – could change values weekly or month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36000"/>
            <a:ext cx="4968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 – a run on th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further problem with fixed rates was speculation where hot money flows would virtually determine whether the currency was revalued or devalu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diagram shows fixed rates in terms of Pounds and Deutschmarks (as was the case with the ER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2.95 DMs to the pound is the fixed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speculators thought the pound was overvalued and only maintained by high interest rates they would sell (S to S1) and buy back later at the devalued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UK authorities wanted to support the sterling they would buy AB ster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market still thought devaluation was going to happen more banks and financial institutions will sell pound shifting the supply to S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435640" y="158760"/>
            <a:ext cx="34574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alu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the authorities increase the value of their currency agains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35640" y="1197000"/>
            <a:ext cx="34052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alu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the authorities decrease the value of their currency agains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page 5"/>
          <p:cNvPicPr/>
          <p:nvPr/>
        </p:nvPicPr>
        <p:blipFill>
          <a:blip r:embed="rId1"/>
          <a:stretch/>
        </p:blipFill>
        <p:spPr>
          <a:xfrm>
            <a:off x="5378400" y="2421000"/>
            <a:ext cx="3702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4968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 – a run on th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c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Raise interest rates to increase demand for the 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nvestors may still be reluctant to buy a currency that they think is overval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y could raise a loan to borrow foreign currency in order to purchase sterling and maintain its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Governments d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 like official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y borrow money from the IMF for example there are normally conditions that regard future economic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UK chancellor had to borrow DMs from the Bundesbank but the speculative flows were too large and the UK was forced to leave the 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5 P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435640" y="158760"/>
            <a:ext cx="345744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International Monetary Fund – a multinational institution set up in 1947 to operate the adjustable peg exchange ra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page 5"/>
          <p:cNvPicPr/>
          <p:nvPr/>
        </p:nvPicPr>
        <p:blipFill>
          <a:blip r:embed="rId1"/>
          <a:stretch/>
        </p:blipFill>
        <p:spPr>
          <a:xfrm>
            <a:off x="5442120" y="2060640"/>
            <a:ext cx="3701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5 P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28440" y="314280"/>
            <a:ext cx="928368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exchange rate between two currencies is the price of one in terms of the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first diagram shows the market for do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demand for dollars comes from the UK which offers pounds in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supply of dollars come from the US to buy the p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Both countries demand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currency 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Purchase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go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purchase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invest in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fi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specul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put funds in each others banks when the rate of interest incre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Equilibrium price is 50p ($1 exchanged for 50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ge 1"/>
          <p:cNvPicPr/>
          <p:nvPr/>
        </p:nvPicPr>
        <p:blipFill>
          <a:blip r:embed="rId1"/>
          <a:stretch/>
        </p:blipFill>
        <p:spPr>
          <a:xfrm>
            <a:off x="5307120" y="836640"/>
            <a:ext cx="3857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he case for a fixed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inforcing comparative advan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89080" y="1125360"/>
            <a:ext cx="8854920" cy="261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usd-cny"/>
          <p:cNvPicPr/>
          <p:nvPr/>
        </p:nvPicPr>
        <p:blipFill>
          <a:blip r:embed="rId2"/>
          <a:stretch/>
        </p:blipFill>
        <p:spPr>
          <a:xfrm>
            <a:off x="2268360" y="3789360"/>
            <a:ext cx="4286520" cy="2828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6948360" y="4149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ed or Flexible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P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540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managed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fixed rate make it impossible to concentrate the use of the rate of interest on inflation targ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free floating exchange rate can lead to large changes in the price of imports and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managed float where sterling is free to fluctuate between levels is the altern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 the diagram assume that the UK government sets an upper limit (a ceiling price) of 2 Euros to the 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lower limit (floor price) is 1 Euro to the 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price were any lower it would make imports into the UK too expensive and bring inflationary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exchange rate can be seen as a trade off between too much inflationary pressure from import prices and competitive export prices to improve the balance of pay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6 P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724360" y="158760"/>
            <a:ext cx="31687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ty flo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anipulation of a floating rate to gain advantages over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age 4"/>
          <p:cNvPicPr/>
          <p:nvPr/>
        </p:nvPicPr>
        <p:blipFill>
          <a:blip r:embed="rId1"/>
          <a:stretch/>
        </p:blipFill>
        <p:spPr>
          <a:xfrm>
            <a:off x="5648400" y="2060640"/>
            <a:ext cx="3321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24920"/>
            <a:ext cx="46814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managed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will try to manage the exchange rate by buying and selling pou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When the pound rises near to two Euros the authorities will se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s it falls lower to 1 euro it will bu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Should they manipulate the currency in order to gain advantage over their trading partners this is known as dirty flo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upper and lower levels are not publicised by the authorities so it is difficult to specul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By using the managed float the authorities can obtain the advantages of both floating and fixed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6 P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8360" y="158760"/>
            <a:ext cx="3744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ty flo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anipulation of a floating rate to gain advantages over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age 4"/>
          <p:cNvPicPr/>
          <p:nvPr/>
        </p:nvPicPr>
        <p:blipFill>
          <a:blip r:embed="rId1"/>
          <a:stretch/>
        </p:blipFill>
        <p:spPr>
          <a:xfrm>
            <a:off x="4970520" y="1268280"/>
            <a:ext cx="4032360" cy="489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468360" y="5445000"/>
            <a:ext cx="4319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90 Student Wor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6888" t="9377" r="12125" b="16916"/>
          <a:stretch/>
        </p:blipFill>
        <p:spPr>
          <a:xfrm>
            <a:off x="114480" y="585720"/>
            <a:ext cx="8988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Ke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= A de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loating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Appreciation =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An in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loating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Devalu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= A de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ixed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Revaluation =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ixed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404640"/>
            <a:ext cx="8424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Mjmfood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Work through all of the student workpoints in the Exchange rate chapter (to hand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HL work through the two HL assessment advices (to hand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Next week: During each lesson there will be some kind of assessment on international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Revise for homework (revise for 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Demand for US goods and services increases which increases the demand for the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D shifts to D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dollar is now worth more (£1) – it has appre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sterling has depreciated against the dollar – it is worth less in terms of the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Weak pound exports cheap (WIDE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Assuming that exports are elastic the BoP will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f exports improve the UK will have to supply more sterling (when the US demands it in exchange for the doll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S shifts to S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price of the pound (in terms of the dollar)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191200" y="5529240"/>
            <a:ext cx="403200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yCjwXz7ZXw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k guy – BoP and exchang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age 1"/>
          <p:cNvPicPr/>
          <p:nvPr/>
        </p:nvPicPr>
        <p:blipFill>
          <a:blip r:embed="rId2"/>
          <a:stretch/>
        </p:blipFill>
        <p:spPr>
          <a:xfrm>
            <a:off x="6114960" y="0"/>
            <a:ext cx="25275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page 1"/>
          <p:cNvPicPr/>
          <p:nvPr/>
        </p:nvPicPr>
        <p:blipFill>
          <a:blip r:embed="rId3"/>
          <a:stretch/>
        </p:blipFill>
        <p:spPr>
          <a:xfrm>
            <a:off x="6249960" y="2997360"/>
            <a:ext cx="21877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353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ings that increase the demand for the £ from the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crease in interest rates relative to the US causes a flow of hot money (dollars coming to the U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rise in demand for UK exports by the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f speculators think the value of the sterling will fall and the dollar to increase they will buy ster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floating exchange rate is one that is dictated by th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745feac8-b59d-11dd-ab71-0000779fd18c"/>
          <p:cNvPicPr/>
          <p:nvPr/>
        </p:nvPicPr>
        <p:blipFill>
          <a:blip r:embed="rId1"/>
          <a:stretch/>
        </p:blipFill>
        <p:spPr>
          <a:xfrm>
            <a:off x="1042920" y="3941640"/>
            <a:ext cx="67820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Advantages of a Floating Exchange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utomatic adjustment mean that a country with a large balance of payments will see their exchange rate depreciating which means the price of exports will fall and become more competitive leading to an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improvement in the B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duced speculative pressure – if there are fixed exchange rates speculators will sell and then repurchase when the price has f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f there is a large amount of speculation this may force governments to reduce the value of the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peculators will gain by selling it at one price and buying back at a low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 floating exchange rates countries cannot be forced to devalue and speculators have no idea how far a central bank will allow its currency to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currency is more 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f government does not have to maintain the level of a fixed exchange rate it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will not have to hold such large foreign exchange res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loating-exchange-rate"/>
          <p:cNvPicPr/>
          <p:nvPr/>
        </p:nvPicPr>
        <p:blipFill>
          <a:blip r:embed="rId1"/>
          <a:stretch/>
        </p:blipFill>
        <p:spPr>
          <a:xfrm>
            <a:off x="5977080" y="1628640"/>
            <a:ext cx="3166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257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dvantages of a Floating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f government does not have to maintain the level of a fixed exchange rate it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will not have to hold such large foreign exchang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reedom (autonomy) for domestic monetary poli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This is arguably the most important advantage of having a floating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sence of an exchange rate target allows short term interest rates to be set to meet domestic economic objectives such as controlling inflation or stabilising the econom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-floating-exchange-rate"/>
          <p:cNvPicPr/>
          <p:nvPr/>
        </p:nvPicPr>
        <p:blipFill>
          <a:blip r:embed="rId1"/>
          <a:stretch/>
        </p:blipFill>
        <p:spPr>
          <a:xfrm>
            <a:off x="5651640" y="1413000"/>
            <a:ext cx="2981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Disadvantages of a Floating Exchange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No guarantee to solve BoP problem – depends on the PEDs for exports and im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Effect on domestic inflation – when the currency depreciates imports increase in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Raw materials more expensive and firm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costs go 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Pass on to consumer with higher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Demand for higher w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Uncertainty – since the removal of exchange controls massive capital flows can occur leading to large changes in a currency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Rapid increases lead to unemploy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Falls lead to increasing inf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Foreign currency reserves have not really become redundant because most governments buy and sell their currency to maintain what they think should be an optimal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372360" y="260280"/>
            <a:ext cx="252072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change contro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restrictions on the ability to trade foreign currencies by a count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MB"/>
          <p:cNvPicPr/>
          <p:nvPr/>
        </p:nvPicPr>
        <p:blipFill>
          <a:blip r:embed="rId1"/>
          <a:stretch/>
        </p:blipFill>
        <p:spPr>
          <a:xfrm>
            <a:off x="5975280" y="2421000"/>
            <a:ext cx="3168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400_F_23980921_ywe5R6Gt94O61D7tKcJR8zzcBdr4195q"/>
          <p:cNvPicPr/>
          <p:nvPr/>
        </p:nvPicPr>
        <p:blipFill>
          <a:blip r:embed="rId1"/>
          <a:stretch/>
        </p:blipFill>
        <p:spPr>
          <a:xfrm>
            <a:off x="2916360" y="3548160"/>
            <a:ext cx="3232080" cy="3232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rcRect l="7475" t="9377" r="8659" b="36771"/>
          <a:stretch/>
        </p:blipFill>
        <p:spPr>
          <a:xfrm>
            <a:off x="395280" y="69840"/>
            <a:ext cx="8207280" cy="329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442800" y="3378240"/>
            <a:ext cx="8134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19285" t="16916" r="19881" b="15041"/>
          <a:stretch/>
        </p:blipFill>
        <p:spPr>
          <a:xfrm>
            <a:off x="1476360" y="2870280"/>
            <a:ext cx="568656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rade weighted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terling Exchange Rate Index (ERI) is the same as the Effective Exchange Rate Index (E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weighted index of sterling's value against a basket of currencies the weights used calculated by the importance of trade between the UK and each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d by economies to compare their exchange rate against those of their major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51:22Z</dcterms:created>
  <dc:creator>Rom</dc:creator>
  <dc:description/>
  <dc:language>en-US</dc:language>
  <cp:lastModifiedBy>Julia</cp:lastModifiedBy>
  <dcterms:modified xsi:type="dcterms:W3CDTF">2015-07-12T10:43:12Z</dcterms:modified>
  <cp:revision>17</cp:revision>
  <dc:subject/>
  <dc:title>Exchange Rates</dc:title>
</cp:coreProperties>
</file>